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C807-A064-4C03-98BE-386AAE25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5813-5F93-45EA-A400-75419D13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7DEA-4BBA-4305-AF38-2D0DD8B1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5A94-DD6E-4CA3-B7D6-F63308A6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71A1-70D9-49DC-9643-F5ACEDBA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BDEB-CCBE-4E07-999B-2EF85268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3170-6236-4F71-87D1-4852929F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FD76-48F8-4502-894A-14F19BE2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8B9C-B4F8-42B7-B372-15E2D1BE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1CF2-B59A-4077-8D8C-CB933927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91AA-7ED0-4649-94B9-7C72E01F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3974E-BE75-4E16-830E-BBE3A1FF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9D61-9AAF-490D-B648-6FB96108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7FC8-0A7F-403D-AE82-9802BDE8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7ADE-E71E-47F4-8FA7-7F7F1AED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FD2A-44CC-42DD-9623-B8ED3B7A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0756-34D9-4308-9FDC-E0CD4CCF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DC70-F655-4687-9B50-6004DDC9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8FE1-3635-4A5E-A4E9-2D91BFD9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DB6A-7B87-46E6-BB07-05331CD3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2218-793B-4346-9089-0CB52219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A34D-868B-426A-9F82-8B68404A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68D7-A355-45BD-9607-A3C18388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C5D0-ED97-4554-A773-2FAA63B7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1F87-7044-47CD-B9F8-8E78B0C72B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8D2B-BE6D-4947-B215-52C788110F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jiss.net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2120" y="54860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ilip D. Propes, Program Direct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nter for Information Technology Engineering (CIT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76720" y="2362320"/>
            <a:ext cx="2562120" cy="2838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317680" y="762120"/>
            <a:ext cx="459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CRLE - Trib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chnology Proj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160" y="83808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urrent Project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371600"/>
            <a:ext cx="7543800" cy="53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se II:  Setting up centralized datacenters for each t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tablish connections with datacenters from remote districts/locations within each tri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lude shared data from courts, police, and prosecuting attorney off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nect the Navajo, Hopi, and Zuni datacenters to begin information sharing, based upon the wishes of each tri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1400" y="938160"/>
            <a:ext cx="39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Current Project Goals - continu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68280"/>
            <a:ext cx="75438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ase II:  Integrating platforms and software from multiple ag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vajo Na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vajo Police Depart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vajo Cou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vajo Prosecuting Attorney’s Off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ueblo of Zu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Zuni Police Depart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Zuni Cou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Zuni Detention Cen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opi Tri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opi Police Depart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opi Cou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opi Prosecuting Attorney’s Off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00" y="888840"/>
            <a:ext cx="44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Future Project Goals -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371600"/>
            <a:ext cx="7543800" cy="36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se III:  Begin sharing information with surrounding non-tribal ag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aring electronic information, based on the wishes of each tribe, with surrounding towns and coun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gin sharing information, again selected by the tribes, with state and federal ag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ribal Technology and Information Sharing Outreach Prog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28195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vide information technology assistance to tribal agenc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vide network templates and self-assessment tools to tribal agenc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vide tools via help-desk, website, e-mail, and standard ma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ibal Justice Information Sharing System (TJISS),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www.tjiss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ll-free assistance: 877-47-TJI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38080" y="230184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vailable to All Tribal Ag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ribal Technology and Information Sharing Outreach Prog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38080" y="2286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ww.TJISS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877-47-TJI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352680" y="2286000"/>
            <a:ext cx="3841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ribal Technology and Information Sharing Outreach Prog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38080" y="2286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JISS Online Help De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981080" y="2743200"/>
            <a:ext cx="52578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ribal Criminal History Records Improvement Program (TCHRI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vide technological interconnectivity between the Hopi and the Pueblo of Zu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velop the necessary support data mechanisms for integration with federal databas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hance the tribes’ judicial and law enforcement databas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plement criminal history record autom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are relevant data with national and state databases and BJ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230184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unding through the Bureau of Justice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447920" y="4495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ilip D. Propes, Program Dire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ational Center for Rural Law Enforcement (NCRLE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00-635-6310 or pdpropes@ncrle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76720" y="1066680"/>
            <a:ext cx="2562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743200"/>
            <a:ext cx="7543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operative effort with the Navajo Nation, Hopi Tribe, and the Pueblo of Z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ducted technical needs assessment within criminal justice agencies from each t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00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 initial $75,000 grant project funded by the OJP through the NC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7000" y="1041480"/>
            <a:ext cx="79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nter-Tribal Integrated Justice Pilot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743200"/>
            <a:ext cx="7543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eated final report for OJP/BJA and prepared customized Business Cases for each t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ld Navajo Nation Criminal Justice Summit in Kayenta, 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1720" y="91116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roject Overview -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00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ilitated focus group in Window Rock, AZ for each of the three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3124080"/>
            <a:ext cx="75438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Phases are being implemented for information sharing at the tribal, inter-tribal, state and federal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tribes have been divided into 10 districts for local and wide area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1720" y="91116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roject Overview -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6002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eived $1.5 million grant from the OJP/BJA to implement technical infrastructure plans for each t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200400"/>
            <a:ext cx="7543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pment purchase, setup and technical training are being provided by NCRLE via the grant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se two is now underway, and phase three will follow in the next fiscal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1720" y="91116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roject Overview -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6002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centers will be established within each tribe for the anticipated sharing of justic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3800" y="71136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urrent Project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371600"/>
            <a:ext cx="7391520" cy="52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tworks completed (Phase 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vajo Nation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ownpoint, NM, Shiprock, NM, Chinle, AZ, Kayenta, AZ, Tuba City, AZ, Dilkon, AZ, Window Rock, A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pi Tribe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eams Canyon, AZ, Kyokstmovi, A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blo of Zuni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uni, NM, Black Rock, N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3200400" cy="2398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648320" y="838080"/>
            <a:ext cx="3659040" cy="487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27432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609840" cy="669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CR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88884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urrent Project Status -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971800"/>
            <a:ext cx="74678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CRLE has provided network, internet and e-mail services to 42 agencies and over 1,200 tribal perso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CRLE has provided technical training to 100 general users and 25 network administrators in Farmington,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3716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CRLE has installed 42 wireless network bridges, 39 servers, 200 new workstations, 750 existing computers, 195 cable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495680" y="304920"/>
            <a:ext cx="4496040" cy="3124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52280" y="3505320"/>
            <a:ext cx="419112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495680" y="3505320"/>
            <a:ext cx="4496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9:45:12Z</dcterms:created>
  <dc:creator>Robert Kirkpatrick</dc:creator>
  <dc:description/>
  <dc:language>en-US</dc:language>
  <cp:lastModifiedBy> </cp:lastModifiedBy>
  <dcterms:modified xsi:type="dcterms:W3CDTF">2005-04-28T12:23:36Z</dcterms:modified>
  <cp:revision>86</cp:revision>
  <dc:subject/>
  <dc:title>Slide 1</dc:title>
</cp:coreProperties>
</file>